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299258"/>
        <c:axId val="45716441"/>
      </c:barChart>
      <c:catAx>
        <c:axId val="412992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716441"/>
        <c:crosses val="autoZero"/>
        <c:auto val="1"/>
        <c:lblAlgn val="ctr"/>
        <c:lblOffset val="100"/>
        <c:noMultiLvlLbl val="0"/>
      </c:catAx>
      <c:valAx>
        <c:axId val="457164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2992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5315-4392-4D8A-91F7-B8490EE76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421D-75F6-4C03-8BBC-4FE66654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7B8D-7AB5-4060-AD34-8A0E18F81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C6F5-F829-48DA-AF2A-AB8C03DB3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0013-0080-44F6-8BFC-D3559063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1961-9E96-44F5-A5E0-4F93C489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6EF0-0414-41D4-AB76-7D045AC6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2099-8810-4DC3-B298-905E8E9C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3AC3-056F-4D94-9129-EB48F067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DEE3-FFFF-4B8B-AC1C-E90E6455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0488-0EDF-4FF7-BB9E-BAE3EAF6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393A-9AD2-4158-ABF7-01972A03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27208B-B77E-488D-86CF-1F00BE1F8F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