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07351"/>
        <c:axId val="62446359"/>
      </c:barChart>
      <c:catAx>
        <c:axId val="94007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46359"/>
        <c:crosses val="autoZero"/>
        <c:auto val="1"/>
        <c:lblAlgn val="ctr"/>
        <c:lblOffset val="100"/>
        <c:noMultiLvlLbl val="0"/>
      </c:catAx>
      <c:valAx>
        <c:axId val="62446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07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D42-679A-4E7C-8206-9EB97761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B6C-F4DC-4F9E-9192-451159C5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D12-3D1C-49A4-A4A3-EC6A11F0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0BC-FD71-45EF-AF5C-2815ADD3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F19-2D5B-440C-893B-C673C20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8DE-F47B-402C-A4BD-50A8355C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DE5-B329-4B99-9E88-1190F79F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47F-CA96-4CB0-BA82-0C27FAF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50F-AE80-4193-AF8F-F2B0CD8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460-4A7F-4352-B780-55FED1D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915-AE60-44E4-898B-D76BC29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C85-21B3-49B7-9E73-1DE03BE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246C1-E54A-4DA8-B381-553DD9C48B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