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93967"/>
        <c:axId val="87477600"/>
      </c:barChart>
      <c:catAx>
        <c:axId val="53093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77600"/>
        <c:crosses val="autoZero"/>
        <c:auto val="1"/>
        <c:lblAlgn val="ctr"/>
        <c:lblOffset val="100"/>
        <c:noMultiLvlLbl val="0"/>
      </c:catAx>
      <c:valAx>
        <c:axId val="874776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93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E7F-855B-4AC4-B372-959665A6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9D1-0460-447E-92DB-DB11E41D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F92-6729-4188-AB81-18987AD6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630-A283-4955-8958-352FAB9B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04A-5043-4FCC-A1D6-9DDC412B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579-4CBA-45D6-8B68-53D7FEA2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758-B224-4E95-98D5-E7382880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665-46D0-468C-880D-B05DF0AF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ACF-AFB9-4937-A279-E24A770F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163-D871-47B9-8CF4-9D97E42B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378-F0C8-4F52-9F9E-EF2CD626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287-4982-43CF-A589-B6FD1372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A0C8E-9D69-4FBE-A5CD-78EC0FD5DC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