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24764"/>
        <c:axId val="56940605"/>
      </c:barChart>
      <c:catAx>
        <c:axId val="12424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40605"/>
        <c:crosses val="autoZero"/>
        <c:auto val="1"/>
        <c:lblAlgn val="ctr"/>
        <c:lblOffset val="100"/>
        <c:noMultiLvlLbl val="0"/>
      </c:catAx>
      <c:valAx>
        <c:axId val="56940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24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35F-2393-4EA6-AA99-0BE0AA34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1DC-9746-4253-B4BD-95A05EB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4B6-7A34-472A-AB2E-0E11AC36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054-7063-4AC7-9A17-3FF31E19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B1A-2D36-42CB-B17E-1233717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AF7-5157-481C-8A8A-CAC99FE2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061-963F-4CE1-BAEE-EA03DDB0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A13-5F8F-41F5-A131-0809AB3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83F-7663-4A2B-8B9C-7FE5815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569-7263-4391-BE91-03CA56F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DDB-31D9-4B86-8270-C0BC11D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E3D-9307-473F-8EA6-CC0923C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ECB66-DBC8-4799-980C-61343E962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